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BCAB20-C6D2-4676-B754-12982F6E45D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EDB21B-E5E0-43F1-9381-FDDC645D1B5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339AD4-0186-4052-AD37-0FC7C8E77CF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0AA01F-138B-4180-8DC7-55A97BD7D8B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5E2349-229B-4654-A8AB-0412135A092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EB8A05-282B-4861-AB5B-5A883FCDB87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64950C-1953-4E77-8ADF-564AB5146EC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54FFED-BDCF-4625-9477-64881F9CD5C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DBA38D-7541-441C-B044-6CCDEDBB711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0B342-6F34-4A7D-9903-959A2C97D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69F57-7512-43AD-B85F-B30A1D2B649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5F38F-0383-492E-B27D-422A7A222CB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818E1-E40A-4B0E-B672-D08368E7A04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8F36A-9799-4FC3-80E2-83112A3BBF0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BE606-9B25-43C7-B9B0-079F2F4890A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57F2B-B365-414C-9E8C-B0CA1F2629A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C21EE-9393-4250-91EE-BD0C124915D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2BA0E-94EE-49D3-97F9-3B62665E388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6F0D5-FA8E-4D76-9A4F-CD00AF3068E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D8F71-C2A6-4132-89D9-57E06B5C9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1CE0E-C8D2-4A75-94E6-6C4ECD7C2AD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62B0A2-6F89-4CC9-BA70-57D22C7F931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C4CF5B-1337-43DE-A4E8-9F80DB6BBE5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61CB94-0CF7-4F84-904B-547FF5F4035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5D21BB-5F72-47AD-A5AC-F4857995DA6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5DA04D-DF57-4488-811E-E42FF576D00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62D1AF-0555-4EDD-A10C-EFE2537C1A6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B573E2-1027-4AC7-A755-032E0A8A8EA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37DBA6-1283-4FA7-9AFC-8B30DF2D0B8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10EF8E-1197-4104-84C1-D92C38DDA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0E57C-0032-4FA2-8874-257D787CA7C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E12C99-8689-4658-B7B0-228DAA0268F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E97598-C434-4E00-8869-589E5E54692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07DBFE-1A75-4276-83D0-0ECA93434F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53982-DE38-4172-810E-7A306EF353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034D5-E6AD-4F1C-93A8-8506FEE1CD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7AEEE-07B9-4716-9714-F6E34A9992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A246F-DB89-4843-B78F-8716935860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B48FB-0BC6-4710-86E6-87B29F0600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5B133-3688-4986-A499-0E2FAC8B69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EE70E-2002-4917-AEDE-CE8927E70C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0BF46-A748-457A-8964-20E8DE9694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5CCFE-17AC-4FA4-8D35-99A95A6520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FC350-BCDB-4F9F-889E-96A3C038A5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E836A-A3A7-4508-BE93-5AC8520F0E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1AAC6-5643-4BEC-BF9A-31D79E8822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967AF-CB2A-4655-BBEE-3D176F4323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98E5A-C127-4D79-9C04-8A9EF9F1D5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03D12-017E-479D-9DE6-9076499908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C8D2E-090D-4349-9684-F26E775EBA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AF78C-2C29-44F2-94FD-329C8BC10D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9B5F7-FD67-4189-ACB3-312AF46A5B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01143-4F1D-4F02-B1C3-185ED0AFBD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2C7E3-9E27-4916-8D74-9A7492F4BA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C102C-2D42-45C7-AA84-51E6B720FF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0E7CF-CAF9-4816-B81A-E94BE0C0CA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1EAFD-AC84-4C53-955E-009D9E4A3C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D33D-42CB-4D87-9C8F-F76E94384A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9709-8387-48CF-A88B-D8B14ECDBA6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0911-A524-4D6D-9981-BFAE1C057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D6C5-250B-4FB3-8410-23C2EF9A11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B0A5-E21D-4625-8618-F37701BDFA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4971-266D-46DA-A6B4-E00B0FA88D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EB3F-0DF3-48D7-A6C0-945D9FE9A6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99AE-D0E4-4793-9BE7-CD7506F8CD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8891-8437-4524-9EC9-1E9E32270F1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C298-F964-4984-9006-1DDD402586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C4CA-3FF4-471F-A03F-5929B56070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C0B8-FFA4-424A-9C84-E0DF9B90A7B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22D73-0373-4E14-9509-638D029C0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82BD8-BAE2-400E-9E57-FC573CD0B1E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33A937-AED7-45E3-9DBF-1BCFCBCE834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4D60F-1E60-4DE0-9420-4CFCA9229A4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4C0D9-CA56-4265-9AF0-150762AA86B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9ED83-9CF9-47BA-B7E8-0C7E1D122CE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7FBF9-7990-4A80-80BB-26D33C421C7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193BD-5A5E-4326-95A0-C424C27BE37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E439A-DE1D-40D4-916A-44EFCF0AEFE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63F0A-2BD5-40FA-B375-0916A4489B3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C555F-C0B5-40C7-AD4A-663F6C10A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B99CB-4084-46A5-9D1F-8922CE90C71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0876BF-93D7-44DF-9880-69C03EF7E85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5D9D8A-537A-4AC4-B001-1CB5343757D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10BEE5-02AC-44B5-A337-19DB8431464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B41271-7A9C-4740-A5E3-24AD98FE6D4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5CEAFB-32B3-4A00-9E9C-C1EB58F2656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7E4264-5E69-469D-B96D-57C50446656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650218-FC89-43F5-A4E1-D257EEB5CD8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4A420F-602D-40C7-989D-5CD7933135C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D829AD-6EBA-41B6-A711-8B602498B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D0A24F-B74A-4E9E-8D5C-E2AE16ED1B9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5FA85C-EC73-4FA3-8995-7978E09E69C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299B59-83DC-4B02-B742-C961DA32E67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F9794-1B3E-428C-B25E-6F8EFD35A4C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9FDF4-7DE7-4712-8352-F94015F4DEC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BBDBE-5FA9-4764-AC53-6C09240001F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CD6D1-BFB0-4B89-9D1E-45D8C106460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0908C-DDEB-43CB-979E-4E013886A01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3BB4C-2175-42A9-B08C-8B7F2F025BB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65296-B1CC-49FF-9303-8CB54D9A1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FD5BB-D092-4CF1-875E-D3D0608A0B3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04745-08C8-4D0C-AE28-73E9B784F6E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2831C-11F9-4BBE-9259-9A45F815833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72783-25C4-4F10-8A0D-C9A4ABC4534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081CB-7FCB-4715-9A58-77D42ECEDBF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04C83-8342-4400-9C4C-FABA0123767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DD550-A499-4157-91EB-851DAA10C94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9BE7BA-BF00-42C7-B642-A6C74E25648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8D01D-BB77-4223-A390-AD839EBEF41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03881F-BB1C-4F6C-9CF6-F0E398680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3221C-0795-4A4C-8A6E-AB932A3FF5C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C860E4-BF70-45C9-98F3-AF8A7DDFBC0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4B518E-CE11-40EF-B3F8-BBCBEC38AA9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D3CA68-DA0D-41BA-A632-B4D6E9ADAFF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17F804-3645-4E8B-AC11-C1E35E2641F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D8E45-BE46-4AD3-85B3-C91B59D602F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F05B90-06A7-4C38-AB89-F4F35083583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99F5E5-B864-47CA-B853-9BA937BDE62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53ACB8-6DE1-4EFF-BBE3-C3F38B847F4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C21044-321C-4D6C-A908-E2BD27EEB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40E8-33F2-4B72-A2CE-7B870E5DB8E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43CD-9667-4170-A1F4-B8F2F427551F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41CC-2733-43C3-BB18-B096E0DBF2A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1A3E-1F67-4E01-B105-63A5A4361DA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606D-736A-40E1-AA36-4081F60D55A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1C2A-FC86-4369-A129-8CB01B75546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1F66-603C-46B4-AD0D-785F3337E28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9CA0-6E5E-4836-AAEA-1A33859C65A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6F43-7761-490B-9707-0CC3A597325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723D-4599-4EB9-8F82-F8C9408F099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341360"/>
            <a:ext cx="821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Progetto, disegno, comunicazion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e: prof. Roberto Matte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1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80 Polimi + 10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’esame per non frequentanti: N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991440" y="15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539640" y="378936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resentazione come strumento di comunicazione del progett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&gt; partecipazione ad un Concorso di idee su bandi internazional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Rappresentazione = descrizione grafica della progettazione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mezzo comunicativo tra il progettista ed i suoi interlocutori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o scopo è sperimentare un approccio personale alla rappresentazione ed alla comunicazione del progetto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1005480" y="15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468360" y="1268280"/>
            <a:ext cx="835164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Progettazione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- atto creativo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olto a soddisfare una domanda rispondendo ad esigenze e requisiti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cezione e comunicazione visiva =&gt;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ultura della vision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potenziale visivo del progetto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verifica e critica degli esiti comunicativi degli elaborati grafici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b050"/>
                </a:solidFill>
                <a:latin typeface="Verdana"/>
              </a:rPr>
              <a:t>                     </a:t>
            </a:r>
            <a:r>
              <a:rPr b="1" lang="it-IT" sz="2400" spc="-1" strike="noStrike">
                <a:solidFill>
                  <a:srgbClr val="00b050"/>
                </a:solidFill>
                <a:latin typeface="Verdana"/>
              </a:rPr>
              <a:t>rappresentare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</a:rPr>
              <a:t> un’</a:t>
            </a:r>
            <a:r>
              <a:rPr b="1" lang="it-IT" sz="2400" spc="-1" strike="noStrike">
                <a:solidFill>
                  <a:srgbClr val="004d99"/>
                </a:solidFill>
                <a:latin typeface="Verdana"/>
              </a:rPr>
              <a:t>idea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</a:rPr>
              <a:t> attraverso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Verdana"/>
              </a:rPr>
              <a:t>un’efficace </a:t>
            </a:r>
            <a:r>
              <a:rPr b="1" lang="it-IT" sz="2400" spc="-1" strike="noStrike">
                <a:solidFill>
                  <a:srgbClr val="00b050"/>
                </a:solidFill>
                <a:latin typeface="Verdana"/>
              </a:rPr>
              <a:t>comunicazione 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</a:rPr>
              <a:t>del </a:t>
            </a:r>
            <a:r>
              <a:rPr b="1" lang="it-IT" sz="2400" spc="-1" strike="noStrike">
                <a:solidFill>
                  <a:srgbClr val="004d99"/>
                </a:solidFill>
                <a:latin typeface="Verdana"/>
              </a:rPr>
              <a:t>progetto          </a:t>
            </a:r>
            <a:r>
              <a:rPr b="1" lang="it-IT" sz="2400" spc="-1" strike="noStrike">
                <a:solidFill>
                  <a:srgbClr val="d9d9d9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- affinare la capacità di impostare e sviluppare un progetto, dall’analisi alla restituzione dell’idea;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- acquisire e raffinare competenze nell’analisi di scenari;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- sperimentare un approccio personale al progetto, alla sua rappresentazione e comunicazione;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- elaborazione di un concept o progetto su specifiche richieste di un bando di concorso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458" name="Connettore 2 3"/>
          <p:cNvCxnSpPr/>
          <p:nvPr/>
        </p:nvCxnSpPr>
        <p:spPr>
          <a:xfrm>
            <a:off x="3995280" y="3884400"/>
            <a:ext cx="1080" cy="432360"/>
          </a:xfrm>
          <a:prstGeom prst="straightConnector1">
            <a:avLst/>
          </a:prstGeom>
          <a:ln cap="sq" w="255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59" name="Connettore 2 7"/>
          <p:cNvCxnSpPr/>
          <p:nvPr/>
        </p:nvCxnSpPr>
        <p:spPr>
          <a:xfrm>
            <a:off x="6300360" y="3884400"/>
            <a:ext cx="1080" cy="432360"/>
          </a:xfrm>
          <a:prstGeom prst="straightConnector1">
            <a:avLst/>
          </a:prstGeom>
          <a:ln cap="sq" w="25560">
            <a:solidFill>
              <a:srgbClr val="004d99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roberto</cp:lastModifiedBy>
  <cp:lastPrinted>2003-05-08T11:08:41Z</cp:lastPrinted>
  <dcterms:modified xsi:type="dcterms:W3CDTF">2014-09-05T12:12:36Z</dcterms:modified>
  <cp:revision>211</cp:revision>
  <dc:subject/>
  <dc:title>Inserire immagine della locandina, possibilmente in trasparenza e aggiungere Facoltà di Architettura Illustrazione prova di ammissione prof. Silvia Piardi (idem Cedolin)</dc:title>
</cp:coreProperties>
</file>